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929-A71B-4E78-81FF-6143C5A0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F6D-D359-4A78-B8B5-4AA259D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F2C-2F51-46B7-B64C-2B0F349F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EE0-D475-4FBE-9FD6-6B88BE45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F7CA-F543-4DA9-A283-A11000B0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0F09-999E-4B25-8436-1BD30C91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89E-CB8C-48E6-82F2-C1C2C086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C831-85DD-488D-AC7B-9FA57CDA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2469-BF23-40B2-841D-DD61085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4205-C3FB-47A6-8ADA-A981B49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C9EF-BB9A-4C59-81C3-C26A222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BCE-72A6-408C-B0DC-078F13D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873-4603-4CD5-942F-5BEB293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3E4E-0374-47B6-81FF-50EF683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FDD2-03D1-4BE6-85F3-B0F657C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CA1F-3EE4-4A2C-AFD7-5AF8A81E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3CD-B286-4A0C-B8C2-C2F64E38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1F2-EC21-4097-B4AF-20763CF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748-2A87-4720-9570-1B039543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59C-32D6-4111-B75A-D4A545E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0B5-93D0-46C0-AAAB-4FC4AE2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987-4F96-47EF-991A-000C608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401-2D12-4DFC-A029-C0F1BBA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7D2-3CE1-40E8-9298-0F2A35C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3610-ACD9-4930-99A5-8538762F22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496-374A-41FA-9358-218BDD18ED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, Reuse, and Re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4135240000[1]"/>
          <p:cNvPicPr/>
          <p:nvPr/>
        </p:nvPicPr>
        <p:blipFill>
          <a:blip r:embed="rId1"/>
          <a:stretch/>
        </p:blipFill>
        <p:spPr>
          <a:xfrm>
            <a:off x="533520" y="3505320"/>
            <a:ext cx="2590560" cy="24778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Reduce, Reuse, and Recycle."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EHS Kids' P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3 June 2007. 1 Oct. 2007 &lt;http://kids.niehs.nih.gov/recycle.ht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to Energ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Kid’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2006. 1 Oc. 2007 &lt;http://www.eia.doe.gov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ast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is anything released into the environment that could have a negative impact on that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merican throws away 4.5 pounds of trash (waste) a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could be anything from paper to diapers or food to batter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j04344510000[1]"/>
          <p:cNvPicPr/>
          <p:nvPr/>
        </p:nvPicPr>
        <p:blipFill>
          <a:blip r:embed="rId1"/>
          <a:stretch/>
        </p:blipFill>
        <p:spPr>
          <a:xfrm>
            <a:off x="5257800" y="76320"/>
            <a:ext cx="1562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to help?: The Three R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eans to make something smaller or use less, resulting in a smaller amount of w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ing something means to use a material again in its original form, or to give it to someone else who can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ycling is when you save a reusable material and take it to where it can be made into something n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Cj02328920000[1]"/>
          <p:cNvPicPr/>
          <p:nvPr/>
        </p:nvPicPr>
        <p:blipFill>
          <a:blip r:embed="rId1"/>
          <a:stretch/>
        </p:blipFill>
        <p:spPr>
          <a:xfrm>
            <a:off x="228600" y="4952880"/>
            <a:ext cx="11905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DUC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less; buy only what you need and use all of what you b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urable items instead of disposable ones.  For example, buy plastic plates that you can used many times instead of paper ones that you throw away after on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store bags.  Carry the items you purchase from the store by hand, or bring your own cloth bag to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MPj03877650000[1]"/>
          <p:cNvPicPr/>
          <p:nvPr/>
        </p:nvPicPr>
        <p:blipFill>
          <a:blip r:embed="rId1"/>
          <a:stretch/>
        </p:blipFill>
        <p:spPr>
          <a:xfrm>
            <a:off x="5791320" y="228600"/>
            <a:ext cx="1087200" cy="15238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U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e used clothes to Goodwill or other char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oth diapers instead of disposable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bicycle breaks, fix it instead of throwing it away and getting a new b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MPj02161700000[1]"/>
          <p:cNvPicPr/>
          <p:nvPr/>
        </p:nvPicPr>
        <p:blipFill>
          <a:blip r:embed="rId1"/>
          <a:stretch/>
        </p:blipFill>
        <p:spPr>
          <a:xfrm>
            <a:off x="5562720" y="22860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CYCL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thing at home and school can be recycled!  Check to see how your community re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hrow anything away that can be recycle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cyclable materia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299870000[1]"/>
          <p:cNvPicPr/>
          <p:nvPr/>
        </p:nvPicPr>
        <p:blipFill>
          <a:blip r:embed="rId1"/>
          <a:stretch/>
        </p:blipFill>
        <p:spPr>
          <a:xfrm>
            <a:off x="4724280" y="3886200"/>
            <a:ext cx="17305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: Which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e of the three R’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Cj04344110000[1]"/>
          <p:cNvPicPr/>
          <p:nvPr/>
        </p:nvPicPr>
        <p:blipFill>
          <a:blip r:embed="rId1"/>
          <a:stretch/>
        </p:blipFill>
        <p:spPr>
          <a:xfrm>
            <a:off x="4343400" y="2666880"/>
            <a:ext cx="284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p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and read, then try agai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238520000[1]"/>
          <p:cNvPicPr/>
          <p:nvPr/>
        </p:nvPicPr>
        <p:blipFill>
          <a:blip r:embed="rId1"/>
          <a:stretch/>
        </p:blipFill>
        <p:spPr>
          <a:xfrm>
            <a:off x="2971800" y="2819520"/>
            <a:ext cx="2922480" cy="3733560"/>
          </a:xfrm>
          <a:prstGeom prst="rect">
            <a:avLst/>
          </a:prstGeom>
          <a:ln w="0">
            <a:noFill/>
          </a:ln>
        </p:spPr>
      </p:pic>
      <p:pic>
        <p:nvPicPr>
          <p:cNvPr id="125" name="MSj01795.wav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correc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4280650000[1]"/>
          <p:cNvPicPr/>
          <p:nvPr/>
        </p:nvPicPr>
        <p:blipFill>
          <a:blip r:embed="rId1"/>
          <a:stretch/>
        </p:blipFill>
        <p:spPr>
          <a:xfrm>
            <a:off x="1523880" y="2819520"/>
            <a:ext cx="6324840" cy="3855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nextslide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Sj01795.wav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3:43:54Z</dcterms:created>
  <dc:creator>Sony</dc:creator>
  <dc:description/>
  <dc:language>en-US</dc:language>
  <cp:lastModifiedBy>Victoria Joy</cp:lastModifiedBy>
  <dcterms:modified xsi:type="dcterms:W3CDTF">2012-04-17T17:54:15Z</dcterms:modified>
  <cp:revision>17</cp:revision>
  <dc:subject/>
  <dc:title>Recycling</dc:title>
</cp:coreProperties>
</file>